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A0A2E-82AF-442C-B6C4-EDF7D75C2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2272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4FC5F-CC4E-4141-8559-644DE6080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2272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2272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49FCE-F5D5-4D2B-8BBD-A2369FBAC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2272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2272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2272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F5A31-04D5-4040-9CB6-BF502088F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3AF27-D803-4DAD-98BB-34CB850F9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82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88503-3055-4961-BC9A-065A1A1D2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8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802F7-F594-49DA-B3F2-3E73C08B2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8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8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05C37-9FF9-4089-B047-DE753A709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1EC91-3E69-4769-9C2E-1D4D015DE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04091-8E78-4421-A6E7-EE7EDE941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8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2272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07A6A-C1A7-47DD-B9F8-ECF9D7DDE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82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C06C3-093E-4522-A96E-1B553A90C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8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2272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79011-29D3-4499-A02E-577DE7FE3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2272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280A5-4628-463D-B1E6-3C62D1969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2272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D9776-570D-4809-A8B6-4FE60390E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2272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2272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639CD-702B-43F4-B628-795EC226A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2272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2272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2272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A0D61-9471-415E-B514-511EB687E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8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ED5B2-B68B-44FA-B3B1-64E011892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8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8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2F94C-75F9-44D1-9143-F6A9B666B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73DDF-9BC5-477A-AA89-AB6A4D6A7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BD9E0-BA5A-46F3-9C9A-8403D3ED4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8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2272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9984D-304C-4578-BAD3-DDCE7729E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8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2272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CB114-F6C4-44BD-ADE8-939FCB158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2272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BC818-B91B-4299-8799-B3F123FAB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8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C2A98-66EE-4AC3-AE68-A8B10651AF8C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8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CEA20-F1C0-4101-8CA1-B3AFA42DB017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http://allgraf.net/uploads/posts/2009-05/1241827697_2-school-board.jpg" TargetMode="External"/><Relationship Id="rId3" Type="http://schemas.openxmlformats.org/officeDocument/2006/relationships/hyperlink" Target="http://files.vector-images.com/clipart/schoolsupplies_gk1.gif" TargetMode="External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56800" y="1000080"/>
            <a:ext cx="700092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071720" y="27147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Автор данного шаблона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Ермолаева Ирина Алексе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учитель информатики и математик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МОУ «Павловская сош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с.Павловс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Алтайский кра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8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1643040" y="1600200"/>
            <a:ext cx="704376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http://allgraf.net/uploads/posts/2009-05/1241827697_2-school-board.jpg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http://files.vector-images.com/clipart/schoolsupplies_gk1.gif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Рисунок 3" descr=""/>
          <p:cNvPicPr/>
          <p:nvPr/>
        </p:nvPicPr>
        <p:blipFill>
          <a:blip r:embed="rId4"/>
          <a:stretch/>
        </p:blipFill>
        <p:spPr>
          <a:xfrm>
            <a:off x="428760" y="1571760"/>
            <a:ext cx="1214280" cy="86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30T18:26:11Z</dcterms:created>
  <dc:creator>Comp</dc:creator>
  <dc:description/>
  <dc:language>en-US</dc:language>
  <cp:lastModifiedBy>Comp</cp:lastModifiedBy>
  <dcterms:modified xsi:type="dcterms:W3CDTF">2011-07-30T18:31:55Z</dcterms:modified>
  <cp:revision>3</cp:revision>
  <dc:subject/>
  <dc:title>Слайд 1</dc:title>
</cp:coreProperties>
</file>