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92B6-8869-4062-B5D4-CBD6607D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6E35-49AB-4D3F-BF7F-4B5C6DF8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D282-7D85-42CB-B7B0-4E82D56B9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1BEB-BE78-4DAC-A211-346FF17E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3248-A490-45D2-9D51-A4201F0FA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B53F-C191-46B5-B58A-889653F6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9D66-C2C4-4B5A-9E5C-76C8E1ED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3167-84EB-4A15-8008-A50070E4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D797-F600-474A-BDB7-D627A0E7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6009-D575-4E12-9E30-31815E0A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BA77-3909-4412-AB94-DB835994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04BC-32BB-4C47-9FD2-F0BFE47B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7F4D-0005-4532-987B-C06D59B1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76FC-E59F-4F45-AF13-5B0C96B4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8715-1E2B-4C7C-9D2E-867C3A9B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FBB83-368F-4F58-94E4-4BA7880DB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8EDC-A26A-4939-B629-ADC86A603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89D5-87CC-4907-843D-BBEF769A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2924-B207-4D7C-93F2-BD89CFB1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C849-5DC3-42FF-BE31-831CA7CF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D6F0-5648-4F37-ACA2-B01959A2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DC81-27F8-4602-9741-2441C7A2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4064-1CBB-416E-9DBD-F7E0CFB3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F17B-A914-4BE3-AA7E-18AB2056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B241-67A6-4364-933F-ECDF5AD068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000240" y="571680"/>
            <a:ext cx="5643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Сегодня на урок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CDA0B-DA9F-42DD-938C-27CB34F983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71520" y="1928520"/>
            <a:ext cx="5600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429000" y="3571920"/>
            <a:ext cx="514368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643040" y="1600200"/>
            <a:ext cx="704376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http://patcollinscm.webs.com/globe2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74202s031.edusite.ru/images/risunok1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i016.radikal.ru/0805/11/baa91c67ab38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map-world.ru/geo-small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d:\Мои документы\Мои рисунки\risunok1.png"/>
          <p:cNvPicPr/>
          <p:nvPr/>
        </p:nvPicPr>
        <p:blipFill>
          <a:blip r:embed="rId2"/>
          <a:stretch/>
        </p:blipFill>
        <p:spPr>
          <a:xfrm>
            <a:off x="714240" y="2571840"/>
            <a:ext cx="642960" cy="633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d:\Мои документы\Мои рисунки\globe2.png"/>
          <p:cNvPicPr/>
          <p:nvPr/>
        </p:nvPicPr>
        <p:blipFill>
          <a:blip r:embed="rId3"/>
          <a:stretch/>
        </p:blipFill>
        <p:spPr>
          <a:xfrm>
            <a:off x="785880" y="1571760"/>
            <a:ext cx="617400" cy="785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Documents and Settings\User\Рабочий стол\картинки на школьныю тему\Рисунок2.png"/>
          <p:cNvPicPr/>
          <p:nvPr/>
        </p:nvPicPr>
        <p:blipFill>
          <a:blip r:embed="rId4"/>
          <a:stretch/>
        </p:blipFill>
        <p:spPr>
          <a:xfrm>
            <a:off x="642960" y="3429000"/>
            <a:ext cx="806400" cy="857160"/>
          </a:xfrm>
          <a:prstGeom prst="rect">
            <a:avLst/>
          </a:prstGeom>
          <a:ln w="0">
            <a:noFill/>
          </a:ln>
        </p:spPr>
      </p:pic>
      <p:sp>
        <p:nvSpPr>
          <p:cNvPr id="92" name="TextBox 6"/>
          <p:cNvSpPr/>
          <p:nvPr/>
        </p:nvSpPr>
        <p:spPr>
          <a:xfrm>
            <a:off x="428760" y="4643280"/>
            <a:ext cx="135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ографическая кар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15:55:29Z</dcterms:created>
  <dc:creator>Comp</dc:creator>
  <dc:description/>
  <dc:language>en-US</dc:language>
  <cp:lastModifiedBy>Comp</cp:lastModifiedBy>
  <dcterms:modified xsi:type="dcterms:W3CDTF">2011-07-31T16:42:02Z</dcterms:modified>
  <cp:revision>8</cp:revision>
  <dc:subject/>
  <dc:title>Слайд 1</dc:title>
</cp:coreProperties>
</file>